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1E31CF-14DF-4F7B-9CA4-39E1EE3602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A65F3-C664-418A-8619-3E3AA9551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AD671-9D15-424D-A514-0CDB56ABA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6B440-7CFD-4638-BF4E-B79EFF8CD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F6B57-16AC-4085-A076-96BF717C0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2DBFF-FC16-4DD9-BB02-67925F119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FA5BB-C16C-4251-B68A-0857E71DD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078D3-C37C-4517-9C98-0DF1DC099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07580-26B3-42AC-9A3F-FC41AC61D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CA984-B23E-4D10-8D3E-E6AA3B151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F4033-F385-4CB2-AB7B-F04AA36B5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E7075-70E8-40CF-98D8-6356BBE8A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67601-527A-401A-8098-112BDB7E2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6EF323-41C2-47E3-849D-4859C324BF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8001000" y="5943600"/>
            <a:ext cx="2079720" cy="1616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biology.plosjournals.org/perlserv/?request=get-document&amp;doi=10.1371/journal.pbio.0060175&amp;ct=1" TargetMode="External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160020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ic Gene Page XM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502920" y="1757160"/>
            <a:ext cx="9070920" cy="50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ott C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MOD Mee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n Diego, January 16, 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ground, or Wh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provide a simple and consistent interchange format for commonly needed gene inform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biology.plosjournals.org/perlserv/?request=get-document&amp;doi=10.1371/journal.pbio.0060175&amp;ct=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.e., making automated mining of gene info across species easier, if one wanted to, say, submit them to WikiPed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6360" y="73080"/>
            <a:ext cx="9071280" cy="74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gen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data_provider&gt;FlyBase&lt;/data_provider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ccession&gt;FBgn0000490&lt;/accessi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name type="primary"&gt;dpp&lt;/nam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name type="synonym"&gt;Dpp&lt;/nam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dbReference type="INTERPRO" key="69" id="IPR001111"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dbReference type="orthologs" key="93" id="HOMSA:ENP44"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organism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name type="common"&gt;fruit fly&lt;/nam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name type="scientific"&gt;Drosophila melanogaster&lt;/nam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dbReference type="NCBI Taxonomy" key="107" id="7227"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organism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mapLocations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mapLocation map="genome" chromosome="2L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osition="2428454..2459609" units="bp"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mapLocations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ontolog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dbReference type="GO" key="108" id="GO:0007455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roperty type="term" value="antennal disc morph"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roperty type="evidence_code" value="inferred"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dbReferenc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literatur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dbReference type="pubmed" key="3368" id="17034783"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literatur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gen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to impl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class Bio::GMOD::GenericGene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::GMOD::GenericGenePage::Ch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lement some abstract classes, li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es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nony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tology_te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 oth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erride new(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 u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y $page = Bio::GMOD::GenericGenePage-&gt;new($id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020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y $xml = $page-&gt;render_xml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020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020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6948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urrent provid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6948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y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ple yeast set at gmod.or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gmod.org/cgi-bin/gbrowse/chado_yeast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6948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6948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b Bu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 Gilbe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cott Cain</dc:creator>
  <dc:description/>
  <dc:language>en-US</dc:language>
  <cp:lastModifiedBy/>
  <cp:revision>0</cp:revision>
  <dc:subject/>
  <dc:title/>
</cp:coreProperties>
</file>